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A23-0B41-4046-83E1-0E5B085D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EB8-2740-490A-AEBF-B32A061B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32AA-7BB1-451F-8644-7FEB4B13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85CF-CD59-4DD1-BE15-D8317010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80E-212F-4A4D-9B8D-F2A97782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DE57-C026-4BF5-AA2E-40998F7D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8326-210B-47C9-BEDD-BC343E2E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F65E-AFBC-4E6B-9202-D260DADB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A0CC-2A5D-4798-B3C7-985FB02E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2D86-9142-475B-AC21-C74C075C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999-DB96-4186-A9BD-1CC9A540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3854-F793-49F4-AF05-7F6AA47E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962E-DCC1-416A-9FCF-466CB54B22EF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ob%20cartoon%20cropped" descr=""/>
          <p:cNvPicPr/>
          <p:nvPr/>
        </p:nvPicPr>
        <p:blipFill>
          <a:blip r:embed="rId1"/>
          <a:stretch/>
        </p:blipFill>
        <p:spPr>
          <a:xfrm>
            <a:off x="152280" y="4114800"/>
            <a:ext cx="1812960" cy="2743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191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Bob Johnson</a:t>
            </a:r>
            <a:br>
              <a:rPr sz="8800"/>
            </a:br>
            <a:br>
              <a:rPr sz="2800"/>
            </a:b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0407 00211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e%20rack%20-%20no%20ties%20cropped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5181480" cy="2311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7" name="tie%20rack%20with%20ties%20cropped" descr=""/>
          <p:cNvPicPr/>
          <p:nvPr/>
        </p:nvPicPr>
        <p:blipFill>
          <a:blip r:embed="rId2"/>
          <a:stretch/>
        </p:blipFill>
        <p:spPr>
          <a:xfrm>
            <a:off x="3733920" y="2895480"/>
            <a:ext cx="3809880" cy="371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HK%20Disneyland%20(45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343400" y="5334120"/>
            <a:ext cx="160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371600"/>
            <a:ext cx="2971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les &amp; diag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4648320"/>
            <a:ext cx="160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685800"/>
            <a:ext cx="2743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yramid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71600"/>
            <a:ext cx="3657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iangles within 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819520"/>
            <a:ext cx="2743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mes / B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65760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711540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OCK POSITIONING:</a:t>
            </a:r>
            <a:br>
              <a:rPr sz="4800"/>
            </a:br>
            <a:br>
              <a:rPr sz="2400"/>
            </a:b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HIGH PROFIT LIN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rst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know what they ar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Eye level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position in classific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lose to Basi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amp; Best Sell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appropriate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ncrease facing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ong customer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enefit statem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Use in </a:t>
            </a: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DET%20logo" descr=""/>
          <p:cNvPicPr/>
          <p:nvPr/>
        </p:nvPicPr>
        <p:blipFill>
          <a:blip r:embed="rId1"/>
          <a:stretch/>
        </p:blipFill>
        <p:spPr>
          <a:xfrm>
            <a:off x="7010280" y="6087960"/>
            <a:ext cx="2133720" cy="7700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304920" y="6172200"/>
            <a:ext cx="533160" cy="459720"/>
            <a:chOff x="304920" y="6172200"/>
            <a:chExt cx="533160" cy="459720"/>
          </a:xfrm>
        </p:grpSpPr>
        <p:sp>
          <p:nvSpPr>
            <p:cNvPr id="47" name=""/>
            <p:cNvSpPr/>
            <p:nvPr/>
          </p:nvSpPr>
          <p:spPr>
            <a:xfrm>
              <a:off x="304920" y="6172200"/>
              <a:ext cx="53316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1240" y="6172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66320" y="2514240"/>
            <a:ext cx="77295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6360" indent="-5763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are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lso traffic genera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go i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‘cold’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ots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*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rime position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class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y not to positio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ll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in st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7188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4320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BEST SELLERS 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&amp; BASIC STOC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DET%20logo" descr=""/>
          <p:cNvPicPr/>
          <p:nvPr/>
        </p:nvPicPr>
        <p:blipFill>
          <a:blip r:embed="rId1"/>
          <a:stretch/>
        </p:blipFill>
        <p:spPr>
          <a:xfrm>
            <a:off x="7010280" y="6087960"/>
            <a:ext cx="2133720" cy="77004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304920" y="6172200"/>
            <a:ext cx="533160" cy="459720"/>
            <a:chOff x="304920" y="6172200"/>
            <a:chExt cx="533160" cy="459720"/>
          </a:xfrm>
        </p:grpSpPr>
        <p:sp>
          <p:nvSpPr>
            <p:cNvPr id="55" name=""/>
            <p:cNvSpPr/>
            <p:nvPr/>
          </p:nvSpPr>
          <p:spPr>
            <a:xfrm>
              <a:off x="304920" y="6172200"/>
              <a:ext cx="53316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1240" y="6172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Hot spots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(high visibility &amp; traffi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Promotional </a:t>
            </a: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e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Promotional</a:t>
            </a: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 displ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Satellite’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Bulk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stacks </a:t>
            </a: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pallet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displ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Near best sellers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basic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lin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Monitor sales &amp; orde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carefu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SEASONAL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DET%20logo" descr=""/>
          <p:cNvPicPr/>
          <p:nvPr/>
        </p:nvPicPr>
        <p:blipFill>
          <a:blip r:embed="rId1"/>
          <a:stretch/>
        </p:blipFill>
        <p:spPr>
          <a:xfrm>
            <a:off x="7010280" y="6087960"/>
            <a:ext cx="2133720" cy="77004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304920" y="6172200"/>
            <a:ext cx="533160" cy="459720"/>
            <a:chOff x="304920" y="6172200"/>
            <a:chExt cx="533160" cy="459720"/>
          </a:xfrm>
        </p:grpSpPr>
        <p:sp>
          <p:nvSpPr>
            <p:cNvPr id="61" name=""/>
            <p:cNvSpPr/>
            <p:nvPr/>
          </p:nvSpPr>
          <p:spPr>
            <a:xfrm>
              <a:off x="304920" y="6172200"/>
              <a:ext cx="53316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1240" y="6172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142640" y="2666520"/>
            <a:ext cx="779148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Display with </a:t>
            </a: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main item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Between main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item and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OS terminal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‘theme’ display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3384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0524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752480" y="990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RELATED ST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DET%20logo" descr=""/>
          <p:cNvPicPr/>
          <p:nvPr/>
        </p:nvPicPr>
        <p:blipFill>
          <a:blip r:embed="rId1"/>
          <a:stretch/>
        </p:blipFill>
        <p:spPr>
          <a:xfrm>
            <a:off x="7010280" y="6087960"/>
            <a:ext cx="2133720" cy="770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304920" y="6172200"/>
            <a:ext cx="533160" cy="459720"/>
            <a:chOff x="304920" y="6172200"/>
            <a:chExt cx="533160" cy="459720"/>
          </a:xfrm>
        </p:grpSpPr>
        <p:sp>
          <p:nvSpPr>
            <p:cNvPr id="69" name=""/>
            <p:cNvSpPr/>
            <p:nvPr/>
          </p:nvSpPr>
          <p:spPr>
            <a:xfrm>
              <a:off x="304920" y="6172200"/>
              <a:ext cx="53316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1240" y="6172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109520" y="2133720"/>
            <a:ext cx="8034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8800" indent="-568800"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is their ability to stand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8800" indent="-568800"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traffic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8800" indent="-568800"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 desk or point-of-sale ter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8800" indent="-568800"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waiting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8800" indent="-568800"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 best sellers or basic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8800" indent="-568800"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part of ‘theme’ dis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1599840" y="761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IMPULSE ITEM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ET%20logo" descr=""/>
          <p:cNvPicPr/>
          <p:nvPr/>
        </p:nvPicPr>
        <p:blipFill>
          <a:blip r:embed="rId1"/>
          <a:stretch/>
        </p:blipFill>
        <p:spPr>
          <a:xfrm>
            <a:off x="7010280" y="6087960"/>
            <a:ext cx="2133720" cy="77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52480" y="57150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NB: Impulse purchases are not merely ‘small change’ item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6172200"/>
            <a:ext cx="533160" cy="459720"/>
            <a:chOff x="304920" y="6172200"/>
            <a:chExt cx="533160" cy="459720"/>
          </a:xfrm>
        </p:grpSpPr>
        <p:sp>
          <p:nvSpPr>
            <p:cNvPr id="76" name=""/>
            <p:cNvSpPr/>
            <p:nvPr/>
          </p:nvSpPr>
          <p:spPr>
            <a:xfrm>
              <a:off x="304920" y="6172200"/>
              <a:ext cx="53316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1240" y="6172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066320" y="2209320"/>
            <a:ext cx="77914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000000"/>
                </a:solidFill>
                <a:latin typeface="Times New Roman"/>
              </a:rPr>
              <a:t>Visible from entry -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but not necessarily </a:t>
            </a:r>
            <a:r>
              <a:rPr b="1" i="1" lang="en-AU" sz="4000" spc="-1" strike="noStrike">
                <a:solidFill>
                  <a:srgbClr val="000000"/>
                </a:solidFill>
                <a:latin typeface="Times New Roman"/>
              </a:rPr>
              <a:t>at 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front of lay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Strongly </a:t>
            </a:r>
            <a:r>
              <a:rPr b="1" i="1" lang="en-AU" sz="4000" spc="-1" strike="noStrike">
                <a:solidFill>
                  <a:srgbClr val="000000"/>
                </a:solidFill>
                <a:latin typeface="Times New Roman"/>
              </a:rPr>
              <a:t>ticke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000000"/>
                </a:solidFill>
                <a:latin typeface="Times New Roman"/>
              </a:rPr>
              <a:t>Window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Any ad for a product you stock is an ad for you ... </a:t>
            </a:r>
            <a:r>
              <a:rPr b="1" i="1" lang="en-AU" sz="4000" spc="-1" strike="noStrike">
                <a:solidFill>
                  <a:srgbClr val="000000"/>
                </a:solidFill>
                <a:latin typeface="Times New Roman"/>
              </a:rPr>
              <a:t>‘piggy-back’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523880" y="837720"/>
            <a:ext cx="733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ADVERTISED STOCK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DET%20logo" descr=""/>
          <p:cNvPicPr/>
          <p:nvPr/>
        </p:nvPicPr>
        <p:blipFill>
          <a:blip r:embed="rId1"/>
          <a:stretch/>
        </p:blipFill>
        <p:spPr>
          <a:xfrm>
            <a:off x="7010280" y="6087960"/>
            <a:ext cx="2133720" cy="77004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304920" y="6172200"/>
            <a:ext cx="533160" cy="459720"/>
            <a:chOff x="304920" y="6172200"/>
            <a:chExt cx="533160" cy="459720"/>
          </a:xfrm>
        </p:grpSpPr>
        <p:sp>
          <p:nvSpPr>
            <p:cNvPr id="82" name=""/>
            <p:cNvSpPr/>
            <p:nvPr/>
          </p:nvSpPr>
          <p:spPr>
            <a:xfrm>
              <a:off x="304920" y="6172200"/>
              <a:ext cx="53316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1240" y="6172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157040" y="2209680"/>
            <a:ext cx="7791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ighl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t (create a focu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lea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t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lace the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acka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-tra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taff on the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ke it the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‘product of the week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ith a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ood se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ucky d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6696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hiller"/>
              </a:rPr>
              <a:t>PROBLEM STOCK…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5400"/>
            </a:b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(before reducing price and profit !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ET%20logo" descr=""/>
          <p:cNvPicPr/>
          <p:nvPr/>
        </p:nvPicPr>
        <p:blipFill>
          <a:blip r:embed="rId1"/>
          <a:stretch/>
        </p:blipFill>
        <p:spPr>
          <a:xfrm>
            <a:off x="7010280" y="6087960"/>
            <a:ext cx="2133720" cy="77004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304920" y="6172200"/>
            <a:ext cx="533160" cy="459720"/>
            <a:chOff x="304920" y="6172200"/>
            <a:chExt cx="533160" cy="459720"/>
          </a:xfrm>
        </p:grpSpPr>
        <p:sp>
          <p:nvSpPr>
            <p:cNvPr id="89" name=""/>
            <p:cNvSpPr/>
            <p:nvPr/>
          </p:nvSpPr>
          <p:spPr>
            <a:xfrm>
              <a:off x="304920" y="6172200"/>
              <a:ext cx="53316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1240" y="6172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90360" y="228240"/>
            <a:ext cx="765324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it to a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‘hot’ sp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best sellers &amp; basic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t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ove to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eye level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n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ear 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ove to dump bin 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price point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an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value perception </a:t>
            </a:r>
            <a:br>
              <a:rPr sz="3200"/>
            </a:b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: 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</a:rPr>
              <a:t>“5 for $10 </a:t>
            </a:r>
            <a:r>
              <a:rPr b="0" i="1" lang="en-AU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00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Give it a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‘holiday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Promote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it’s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worst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taff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for most s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Gift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’ with purchase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ask suppliers for sup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Offer a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 Free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dditional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‘service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DET%20logo" descr=""/>
          <p:cNvPicPr/>
          <p:nvPr/>
        </p:nvPicPr>
        <p:blipFill>
          <a:blip r:embed="rId1"/>
          <a:stretch/>
        </p:blipFill>
        <p:spPr>
          <a:xfrm>
            <a:off x="7010280" y="6087960"/>
            <a:ext cx="2133720" cy="77004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304920" y="6172200"/>
            <a:ext cx="533160" cy="459720"/>
            <a:chOff x="304920" y="6172200"/>
            <a:chExt cx="533160" cy="459720"/>
          </a:xfrm>
        </p:grpSpPr>
        <p:sp>
          <p:nvSpPr>
            <p:cNvPr id="94" name=""/>
            <p:cNvSpPr/>
            <p:nvPr/>
          </p:nvSpPr>
          <p:spPr>
            <a:xfrm>
              <a:off x="304920" y="6172200"/>
              <a:ext cx="53316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240" y="6172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22:27:01Z</dcterms:created>
  <dc:creator>Bob</dc:creator>
  <dc:description/>
  <dc:language>en-US</dc:language>
  <cp:lastModifiedBy>Bob</cp:lastModifiedBy>
  <dcterms:modified xsi:type="dcterms:W3CDTF">2008-03-09T22:38:22Z</dcterms:modified>
  <cp:revision>2</cp:revision>
  <dc:subject/>
  <dc:title>Bob Johnson  0407 002115</dc:title>
</cp:coreProperties>
</file>